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CB6B-CBDD-4D8F-869F-5ADE4404B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CE80-B55C-4E97-A7E0-91AA8E7E0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8A7D1E-174F-4DE5-A8BE-747377F58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A41A0E-F585-4953-BFFD-91CCD1D87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929CCC-0888-4871-8326-96ECACE08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1F4753-F103-414F-98C8-34916172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69C345-A087-4E38-BACF-AF444DA2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E2F46F-0E39-45A6-AAFA-14905C07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384435-3B2D-4A8E-847C-387DFFCD9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92FB33-21EF-498B-90D4-FAD3D3240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9A3AB0-117F-42EF-9D81-5263715CE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A585E8-6BB0-4C2B-BA52-8FD51F403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DD94-ACD1-4341-9BD3-279B541FD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9998B8-7130-417C-A326-CD69E7E35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821F91-CB7B-4D0E-8932-B6CE8CB8E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A30B77-3831-48D0-80FE-47E6AD5A3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205FE7-749B-4766-906B-CFC7FF42A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B48CD1-4BDD-4A84-A2CA-A8077EFB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4B5E46-4695-49A2-9AB8-3DBE32BB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C0AA63-7691-4537-9B0A-BF34A7EA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DD94F7-7963-49BB-87DD-5C7BF353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718385-9812-46FA-B5BF-8C4105EC2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BD9971-D238-4778-AD9D-4B0EF2811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EC95-0804-4FD3-B17E-C42BB48D5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12E232-0F5A-4521-B71E-DCF9E8169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6411CA-4FEC-49F9-824D-AB59008D9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3E0BA1-0CA7-4AB6-848A-C4AF0724E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9FA0E7-DB8A-486C-BE5B-8E5C5897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C7538A-69F6-4C55-A18A-F5925D192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9AD639-D445-47CC-9DF7-3323F09E2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C8A513-53F5-44C4-A3FF-D3511485E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6C3966-CDA7-4432-BE8C-2BAF6031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DBF1FB-B73C-4804-9D77-5470A4A1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701F6B-0699-448B-BEDC-CF20E5DC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FA450-B693-47C0-A733-E5A0CD93C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56BABB-1A81-4E3E-BAF7-DEFBEE3D7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90CF29-26DE-4A1D-8894-68BFBB401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E9C2C1-8912-4268-9BDB-FCC0855C9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34E70C-CC47-4FF7-93ED-CBE2D5345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7A8866-CB6E-452D-B832-70C418944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37A76C-ACA2-4778-947A-917A9A6FE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18AAAF-4B53-4E61-9349-6EF12D861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1B2CF7-3517-4C2C-84AD-8F15B4BC8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BE4FD0-E147-48C8-9FA1-947C339F3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4AFDFB-00AB-4370-B92B-C3565BBC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9EB71-3D18-4D97-889B-A96DB17DB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BCF85C-37C5-481E-9D22-7DF8A7A2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048EF8-ED14-447F-B622-CDCA1F4B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5832E2-EC2D-44C0-B16C-83390255D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716348-1F16-4007-B1FE-DDFEACEFE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1419C1-7FF5-490F-91D1-2FC9F4ADE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3F29EC-67A4-47EF-9B90-3ABDD1DC8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3AA617-2733-4119-AB49-2E4A0683B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B24E25-D165-4252-A5F5-F1095B8F2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26F36B-08B9-48F1-8879-15482A701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2D069C-32E1-4D60-B264-B2BA22533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27EB2-3A60-4966-934F-C381FD331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0B8F30-FEC8-4865-AEBF-E4FE590F3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F5DF18-9DD4-460F-B554-FE8F0144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1872B8-77DD-4B68-9529-F797BCF2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A21269-11D1-4B16-AB89-EF0FF947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67E23C-4508-413B-A8B0-B992A0ECA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912BBE-D8A3-4D71-B209-5DF2633DE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5D3A99-5772-4BFE-A33D-C2902DB7D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3B6612-2FC7-45E4-AF05-89F5D7F55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EBEE51-AEF9-47BB-8A12-6D1757599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9C4DE6-991A-4219-8A4F-91E6B4FF1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ECE8A-38AD-4145-88B6-38A2AF6C0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E05E82-E6E2-4098-80A1-3DE4FAD34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1D76CA-AE9E-4285-A058-A0D2A28FA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04DE7B-84D0-42B7-83B0-E32A3BE8B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DB6339-026C-40AA-9EDF-B412F608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3747C7-61F5-4EED-B78A-422AC195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81D50D-5CBE-4C6B-B349-D11C93BF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76503D-6439-4C58-9515-C85D7F76A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9A4E2F-E07C-4594-8DF2-1CBF3B573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958D89-4D33-4CEC-8025-C4EAE3EAD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0C58B3-D62A-409B-995D-8EF4949CF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246E4-04DD-43CB-9272-F5D669A6B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88DF7D-D555-4DBE-9178-59B5264B4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CBD9FD-657F-4119-83D6-7EB1E3262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D42555-A2FC-4C10-BD4A-34E63301B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623585-471E-491E-A4AC-C8222ECC3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DD4DA7-2F00-4FEA-B48E-86EFD4E1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B8D7A7-04C4-447A-AC17-54DD40D7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0302BD-EE52-4EF0-A95A-18568289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22EC53-700F-409D-BD81-90A21B2B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F3DDEE-E5F8-4779-96B8-BB31E8187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6AB968-7D0D-4ABC-B8C8-577CF03DD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C337A-DA3C-45D3-9CA8-47D298266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540C4A-6B4F-4F95-8B26-E25DFA740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27CD4C-B42E-4299-8D5C-66902B85F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8EA18C-E2A3-4B8E-8A93-1FC112B6C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5DBC0B-5096-4DCE-8BBA-E268AAC02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B0CDFC-07B7-4A19-AEAF-527B5D1FE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529A91-0D26-46EF-A2CE-0C54E5AF4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2674AC-490C-4A77-98F9-3CE4D76FE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BF23B6-39C6-414E-8EF6-EAEDA321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052351-188F-4BD0-8C09-457C9B88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9E2D67-2333-48A5-A6CA-E0D50BCA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D6956-D082-42B2-B91C-17C4F419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8EF4F5-660D-4BA4-B57A-E9488C4A4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5F1E80-9B6D-4692-8A5E-4F8022FA9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6A565F-023D-4717-91C4-ADF822633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47B6E8-58F6-4FB0-AD05-E618AA745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9C7701-4F2C-4481-AF66-EBF5627AF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86A590-CCFD-4E00-A39E-44B0016C3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CF84E8-7676-41C4-80DB-21B1F9581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241174-7F17-427C-9579-097AA2F14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50D5EF-52D8-4990-B408-FB79A6AB4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12D639-C65B-43C4-995F-CC89D627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01B1-395B-4792-9A3B-BC83E882F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82EC1-5153-43BB-97C4-4759ED63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86CB84-85C3-424A-AF45-7950B05D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57F179-86FC-4FA5-BCB2-8FCC6B61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4F68CE-82F2-442F-AC69-CF5BABB23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0DCFEB-021E-4230-BE72-424354CD8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D7ADEB-2890-4010-915A-42B543345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659B86-79BF-4EEC-82B2-B2FFD914E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11E185-8AB4-4C36-987F-9D21AB6F7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121BB7-4F1E-4E43-862B-EAD7835EC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F202CB-2D03-408D-918C-E01A44059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94188A-C898-4798-A341-F03886770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C512F-BBDE-436C-BC1B-C00452BA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1ED490-52D0-478F-9957-E5994F7D3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1E2F60-4451-44C9-B707-F5F63683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0F459B-D221-4174-BF79-BADD5B34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A33364-7732-4BAB-AC18-22C70884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3F9A19-138A-4A1E-AF27-C9D3472AD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A0D5A9-F807-4FDB-B370-F233E75D0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2511DA-E9A1-44BF-A40A-A92249248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AC0E5F-6FE3-4B2A-9B58-7060A40DF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B21F5E-499E-4377-BCA2-87B857571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4FC2A6-233D-4808-BF28-666352DC8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6B810-4EA6-4EC6-8EF4-31E18C23E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16A99B-9B7B-42E5-8D5E-CA056FE2D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2A0004-C5FE-448F-B4E9-21DA80F83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18950F-7A7D-4399-A680-F0030147F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3EBCEF-B6E6-4667-934D-F097DAF2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9A8A8E-6F5F-483C-95D3-A0262403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3F0983-D73B-4763-963A-863CCB24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8510C5-D251-4B92-8E7B-833819B71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53302E-89CD-4509-B8D5-63141C743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6F6226-4391-409A-BAC5-808A695E9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B5EC8F-F035-4768-B64C-64B77D06E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333D2-0E95-46D3-AF44-EE3127BC5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EBF884-EC79-4657-96A2-51920CA5D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3746F2-890A-4BB6-B0C2-9E543917C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39496B-559A-4AD0-9CCD-A272D21E2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E9899C-E0CC-480D-8BC2-E535573AF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BA5AA4-F635-4C1A-973C-3BDC4F506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36947E-645B-4CEA-9D85-7E485982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06588D-3896-4748-86AD-156E910A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B60FD2-0B40-477B-AA25-45DFFD1A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626E89-4714-440B-B0EF-5EAA29BF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A66186-ED9A-4B77-B79C-EF2C2C50D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47713-121D-48ED-B95A-9BCBAC452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B6B2E5-FF7A-4396-A0A4-E3157FA6F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289654-EB94-45CC-8404-808BBBF2D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ED165C-53C9-4EE0-B53C-6FD336E68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FE926E-7957-4903-B85F-1407FC955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EA8F1C-A20D-4642-8BE1-DB1C0FC4F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58105F-3F6A-4A4A-83EE-41C53F478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36F38E-711F-4325-B0C4-EF01BFDF1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77BC2F-69A6-4DB7-9DDE-2D7E930B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605F30-DFAE-4854-A5FB-1999F89A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13838C-8DD8-40B0-81BB-724AD75E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CC609-00C4-463B-A502-3CAF14989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024AEA-14B8-47F2-8ED9-A450F5A80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6967B2-33C3-413D-B2EA-C261590E4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E838E2-B903-409E-BB2D-B48B0F1CE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CF7AB1F-65AE-4C0A-AC85-A633D634B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E1FD69A-6732-4E76-A4AB-B39073BAE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6663256-38B3-4899-B856-904BECC95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3BE3A9F-988C-44C8-8940-EDEB24A55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BD27B3E-80ED-4384-9DEA-146FC76B2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19586D9-F300-4E5A-9BF4-181CDAAE6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0BFC930-E33E-4E32-BC8C-C195EA3F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5B09C-396F-4A81-BAAE-D7B7E9A0C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81CD5FC-E39E-4002-8E46-4DC6F947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54CA061-C489-4A55-B1F0-D3D04DB1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A74B1B7-6509-45BA-AF62-8CE9F0008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24F624F-F24D-4028-9A64-A5B61917F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8E6B361-0C4D-49C7-BFF1-DF3D78BB2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4BB5D02-897D-41CC-B709-6FA4923E3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72C06A6-81D6-45BD-9A67-7A6B3C006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333F328-4F02-4830-90E3-32DAD0F6D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32A57E8-06CA-46D8-BA85-C877D5307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6D8013B-1401-4797-80BC-C9A3CE196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48A93-ACFA-4231-9EA3-0248235E2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B9DD77B-E314-47A8-8093-D559DE7CD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4BF7E41-476A-4109-B7A6-BE1813D9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757BC38-73B1-4BA9-8419-578D03A4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F3598BA-E55A-4400-921F-40056A78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E9B8219-810A-4644-AFA5-5F79FF1CC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F415770-F7EC-49AB-94E9-C7AA00FFB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88798D6-4ADD-48A8-A04E-7A4DFF1D8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5EC4AE8-CA4B-4D83-99EC-C2C1AEC55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ACF86FC-AECC-43C5-A583-E5D9DD18D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2DACCCE-9025-4969-A165-06F675307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B4EC6-F42D-49C9-BEE8-5F700E94A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ABD75B9-94A9-470F-8C44-329E25D01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B0E73EB-79CD-4A2D-A057-19BBD91B7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0FEA8E7-0F38-4E40-9C2F-FB7AF263A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41791C6-E59D-404A-9362-077CA516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21F34A4-C2BE-440E-AFA5-132FDBE9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387C91C-BB67-4092-87B4-211AB102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843A737-E393-4672-B966-1A2945530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50A3A43-4C21-4E96-8047-FDC0F3596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36D4ACC-56EC-4C50-9605-B5241CAB7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903179F-2CC5-499E-B677-DEB49BAF3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49101-51A8-418E-8CBF-3672609C0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CBF4FC9-BFA1-403A-ABB7-4EB36ECEE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B3CFDD7-9383-4108-9D4F-5EC82C1F7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0705F1F-99E8-47DD-91B1-0257550CE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061086D-0CB8-4F42-A1FF-BFFB0D445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31FC0AC-E61B-45D0-BF91-D26E69B0E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2DCB542-D18E-4432-B33A-6CC19A43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ACFFA3B-FFAD-495F-AFAE-D05BCE5C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2EAC372-77C8-4598-A936-13079570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DB66D84-5D10-4542-87C3-A1E8BEFD7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1DE8EA4-2A0D-49D7-A64B-6E0A7C65B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ECCE-DB20-468C-8214-19A508734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939C6-FFF1-4898-9DB8-763DEDD07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269AB38-DBF4-4F62-A221-4F2E86821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6D30510-26E3-4778-9C05-383906DC9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246F205-4C15-417A-BED4-8AAF6210C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1135963-F1D6-48C0-8BEA-5C6BB0D1E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63B0659-64C9-4CEE-AA89-38C19E547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7D4D505-7064-4794-B9ED-5C8F73BAC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EACBDCB-9468-4705-B466-D0FA77374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7785FF8-9EC9-4B6B-80F2-15250741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96D724F-3F85-49DD-9D1C-AF3BB11E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E6DF4C0-8661-4CE0-97A8-35E34DEF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AC18F-EE2F-41AC-8421-7D72670C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31DA9EA-114C-410D-B8E7-7A3FCBBBA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52129EE-1689-4A30-84BE-F1C916410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E1FC3F3-2FA4-46A0-B5BA-E87F13D01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181F4C4-A27D-4D79-B05B-B384FEABB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2E1571D-5532-43E5-B486-1A7D3A6D7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5490130-3D35-4EDF-875D-0E904D7B6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C5A4806-4D26-40AC-95F9-4B027025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71CB3F9-7FF6-4CF5-B366-93F322FA7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36E091D-A02C-48BF-B85A-B2C98D980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96687BE-2919-4CC5-9BA9-530422C0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99661-D388-46A3-9C3C-BDEBA79D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5738DE8-841B-44E1-855B-78F0F701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5F66B44-BF1C-4822-9FD0-CC2E85C5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85AE512-DD2E-432D-9B76-9A5EBB5EA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4BC31F1-993A-47C2-8BF9-FAAAA631B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E5156A9-FE9B-4AAD-A818-2760AB5BD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DA79411-D128-44E2-B565-5A63F40F3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94B9238-87FF-4DB4-BE75-FD387507D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9B5985A-C283-48E2-9B01-26871B725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096F914-3A27-4861-9B77-F64916DBE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56B2E02-767B-49D7-A1ED-BAE75B1F4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10664-66D2-4449-B9EB-E8F5C6F0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426FC1F-C51D-4F49-B805-BDFB7AC3B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962CD43-7C8A-493A-90A7-B2B02C4E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6D65515-50A7-49EB-99B4-F9A155C6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5E44D38-61F4-48E8-BBFD-CA2807C4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DBF3E44-F365-4EA1-8EF0-7845889B4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5329D74-7E71-4252-9673-09C5C556E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1D1C82A-45D7-4922-AFD0-B3577BDE6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D662C3B-BEF9-4F6E-A115-8F61AD9E3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D522298-FA6E-4BD8-9407-58C6488A7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1804823-5392-44D8-A3D4-91E953535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9A9FB-530E-417F-A535-7FDD5D83D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A44C1E2-1046-40BE-8F27-D66692783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A838DA7-F63A-4BDB-A00A-45C5EC53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BDCCACA-BE1C-4525-910C-B1B17589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13159E2-4543-49BF-92D0-F9262558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0F97145-6D40-4FB7-B62C-33E30C24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EEEB916-F569-409F-8BB0-8778E643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076CA86-BFD5-4561-9445-0B7727391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43C1E52-8A3E-4B3D-BBE9-EC73B2203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2E02DBC-6523-4DD7-A1BB-453C163EE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1B76641-A1B4-492C-96F0-1ADE79A54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D2E96-5D00-46AC-8CC9-231B684E0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969DDEE-6CDF-4B24-8CFF-6502B602C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F6BDEB4-ADF3-446D-BB0E-C8883B867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EEE7006-B676-4CAB-955C-104F95054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95B0139-8757-4828-92DD-1DF0CF252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DFCED08-6A72-40DC-8F70-663838AE1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F3F2D13-CFDE-4FF1-92EE-D7CED711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2B762AA-0C9F-4672-B44F-5B64FF85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B9537D6-3356-43C4-82C4-08CEDA29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1E3C895-9352-469E-8BE9-86D25CBC5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C76C0E8-5C8B-402C-940D-4B5F914B7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809D5-12B3-4D76-A526-4A2178374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BCB6D04-6B2C-44B6-9E3E-A2583D889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D35CBB8-53E9-47C8-9327-5DBB75FB8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7C49F02-66D2-442B-88B3-BDF67A41D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9E64405-BE90-40B1-83F6-2F086BD66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2196130-1F1C-41F8-AE8A-AA1896A94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5CC4423-C251-4A86-9440-B94BC31B9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D833F55-5668-4BF8-B83E-9A7800FA5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9C835CE-8FF2-4860-9AB0-9229C60B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CC8AF3E-7AA9-4E20-BE40-4498D44C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A10193E-78FF-41D8-921E-445CD3D0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C8DF2-4BA4-4D1F-8CE8-F30A139D3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3E8E6A9-D4C2-44EB-989C-BC421EED6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40164AC-3F03-4790-A329-787282856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6C56222-AE73-4E92-BB44-2109C8F60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54287-21A8-4CE6-86BE-911496DDF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DF20F-EB3B-4867-AF49-CE788939E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37AD-3FDA-42C8-855E-9653ED37B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BA412-FD15-42DF-ADD4-18ED64767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C3603-8692-4429-A308-DA0FEECDB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16313-048D-4F02-93AF-94B0F2091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0D63A-32B4-488A-ABFB-B2F5A896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C8E48-09E1-4FDD-9E6E-BA1EEC2B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A6115-9862-4C98-929E-72BAF41F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D7794-1825-4348-850A-E3C196507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30E77-F419-4874-9A54-E6DAC2676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E57D4-5CB0-458F-A5CA-EA6601E0F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399F8-7513-4BE1-9501-809F84114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2BDA-F508-44B2-A028-34BB8D2DB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4C886-4B2C-433C-8EAC-F29AE39B9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5C454-FFD2-4417-BBB7-306227ED4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9680A-3CCB-4F70-BAF6-1E8DB32E5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46E10-2BC2-4CA3-8F0F-128D4B909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F6435-9A36-4891-A48A-281043FFC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56625-8E99-43D2-8709-7B8CCF41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FEE3E-7E35-4A18-9D54-4D141D9A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46630-B349-42BC-8026-A779652F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2FFB0-BE7B-4396-97CA-5CFCB85A9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2B323-18DC-4DFC-B9DA-9C34300FF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174C-B1DC-4B89-B5AD-FF7EF08D8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3B9EC-A4A7-4EB3-8380-72A7B49B7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2C80F-D6AF-42F2-9A5A-6CF2554C6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5CDB6-29DC-427B-8F9A-246FE7370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75E76-C980-4ED7-9842-59D3E4B20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9B642-3A37-44DC-8895-A6630C76C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23F9F-3F64-434A-BA70-BE9F16460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E1BF2-7DFC-4D60-A7C7-F58FD883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303811-4437-4F79-AA56-B4010FB6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756E65-3FF3-411A-8E9B-CBF2C6F6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0F135-8C70-4A26-85B2-4C914BB0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DFAD-0E1B-491F-9ACC-EBE6FADD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535F73-E596-4654-A19A-A4F9F9AD5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70EE8-6268-4DB0-AECE-4923F4984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EFB35-F858-4DF5-988F-5D985E9A3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4DF016-1108-4ED2-A069-0D54E3013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46C00-4DEB-493C-A742-21425B3ED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AEE8F-A07D-48FF-BAC6-D8DCFD00B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B298E-A375-422B-9E11-8B7C78001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1F15D-F695-451B-B741-0CEA2EAD5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6E7D0C-A5CD-477F-BD76-5CD699477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011E7-4810-4331-8A05-CAA5F33C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39A0-F2BD-4D64-A34C-9A1569CA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0AF06-A245-4407-A887-E72D3AC7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76E65A-1FC4-4CE9-B3F7-8469AC9A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2BEFB7-68C3-4841-AA3E-99DD338B5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6617D-28B7-4225-9FD1-977978B04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3E2A75-9ED0-4174-B117-2B43A1D75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C72AA2-5709-477B-AEF9-DEA1E0E7C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870B93-01E2-4F30-BD74-0ED08F171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A4CD94-F5F4-4393-96CB-53B8E396C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9FB474-30AB-43CF-B4B7-EA3610A4F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1854C7-6B58-4CFD-91A8-43D7E8A42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A61C-D204-41F0-A551-BCC052A7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22A0FF-3D6E-4238-AD5C-47E801A7A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0C2C7B-3E97-4EF9-B740-BCDF298C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1B53DF-384B-42C5-B93A-39344DA3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62A01C-EC14-4AD4-8AAB-2113A16A7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92F21-F6F7-4259-9067-2F647A238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71919A-B84F-4AF5-965E-A684D0C7A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607EC7-DCD4-461B-BFB9-4ED8C658A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913209-93BF-4170-ACA4-4E8AD11D5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339699-2953-46B0-B02D-FFD9FE940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A4C35F-9EF1-4A07-B088-5EFC3A6A9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0C25B-ABEE-4AD9-9729-BB28449DE79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051FA-454E-4A9E-A3FA-C08BF3B7777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9FE5C-85D7-46B8-9070-4C1BCF9A5D7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F11AC-BEE6-46AA-963F-D46CE605568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9B596-5C59-4D8B-AA97-C9F5C425668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9B8D6-B9D8-413C-9B44-969D13E7BF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0FEA5-212D-4BB8-B977-BA236D2129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5BE2D-3B9B-4D5F-87E0-FE8EDC8B99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007E1-C5DD-438A-BE8D-937E55BE65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4601B-7110-4F91-AFE7-C50C9E359D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3FFB-6579-4F28-A74D-0F09823A17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79F4C-3EDC-4EB8-8C41-D2F6073D93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DDA11-92A3-44A9-9745-0B553AE13D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D81B4-9362-4F6B-BBCC-436EE063BF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C99FB-FCE5-4D38-A658-A70D78604B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D0209-F319-42E2-8022-D8F1FD22DD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88F30-280E-4D54-AB4C-3B50EA3A72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B87B9-D683-46E0-804B-8791130EB0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BB784-FA39-4ECC-8D30-1D7EED9B32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F41AE-C0F5-403F-BD5A-C53C78BA49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8E562-2814-43F7-BCF2-E7001687B4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7D7A3-F1DF-48F3-B58A-B2C030F5B2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71C66-A969-4E15-8D35-B4CAA9206E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B947C-FDAE-4FFA-85B0-0BAD985ED1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1199F-0E1D-4516-8EA3-399D4669C6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1847E-4347-4F42-B2E3-CD191CBD9D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89F1C-C96E-4598-945A-195C11C77A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9BFF5-9C2E-45E2-8834-8E1F9378E3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CB6B9-1228-48A3-8C6E-B495EA2CC3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BD1B2-0EA4-4AE2-AAA5-BAC4EC9689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AF34E-CD75-494E-B6F7-4E612F6E65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CC9D1-CE56-4DFA-9002-8FB12125C3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EF62F-3023-4AB0-ACD4-51F6EB2769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1434C-4107-4E8E-9D68-70998FF3AA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4D082-A74A-4782-AB9F-32FE545666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F39EE-9A9F-4C88-8858-C7DF3EC96D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A7E0B-041E-45CA-A6F3-F9B7A2E4EF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C1B43-50C9-4C5D-AA16-429E8DB95A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56709-0255-48F1-BD35-54C54ACC21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E6F3A-9CDA-44CC-8F6A-CCAB09D8C83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EFF0B-7386-40FB-BAF4-F720FAE58B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1A588-6B0A-42EA-A829-B663212011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3DCAF-DBAC-4CB0-AEAC-26C2F481F3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F57C1-FA6B-42B8-957B-9845E6473A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6300B-0AA2-4F19-BDBA-D2C044D4D90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CF519-A906-40A6-87E3-5B44D837128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718AB-2AD5-4F66-950C-C58F712FDC2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435AE-DA84-4C79-838C-ADEE01BCEF4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C4D78-76E7-44DD-B233-9E05EDCED89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AD765-B17B-4E85-8256-57AE62D644E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1" descr=""/>
          <p:cNvPicPr/>
          <p:nvPr/>
        </p:nvPicPr>
        <p:blipFill>
          <a:blip r:embed="rId1"/>
          <a:stretch/>
        </p:blipFill>
        <p:spPr>
          <a:xfrm>
            <a:off x="2509920" y="2171880"/>
            <a:ext cx="4124160" cy="761760"/>
          </a:xfrm>
          <a:prstGeom prst="rect">
            <a:avLst/>
          </a:prstGeom>
          <a:ln w="0">
            <a:noFill/>
          </a:ln>
        </p:spPr>
      </p:pic>
      <p:pic>
        <p:nvPicPr>
          <p:cNvPr id="1433" name="图片 28682" descr=""/>
          <p:cNvPicPr/>
          <p:nvPr/>
        </p:nvPicPr>
        <p:blipFill>
          <a:blip r:embed="rId2"/>
          <a:stretch/>
        </p:blipFill>
        <p:spPr>
          <a:xfrm>
            <a:off x="995400" y="3062160"/>
            <a:ext cx="7324560" cy="733680"/>
          </a:xfrm>
          <a:prstGeom prst="rect">
            <a:avLst/>
          </a:prstGeom>
          <a:ln w="0">
            <a:noFill/>
          </a:ln>
        </p:spPr>
      </p:pic>
      <p:pic>
        <p:nvPicPr>
          <p:cNvPr id="1434" name="图片 28683" descr=""/>
          <p:cNvPicPr/>
          <p:nvPr/>
        </p:nvPicPr>
        <p:blipFill>
          <a:blip r:embed="rId3"/>
          <a:stretch/>
        </p:blipFill>
        <p:spPr>
          <a:xfrm>
            <a:off x="3078000" y="4011480"/>
            <a:ext cx="274320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1" name="图片 116737" descr=""/>
          <p:cNvPicPr/>
          <p:nvPr/>
        </p:nvPicPr>
        <p:blipFill>
          <a:blip r:embed="rId1"/>
          <a:stretch/>
        </p:blipFill>
        <p:spPr>
          <a:xfrm>
            <a:off x="843120" y="1847880"/>
            <a:ext cx="745776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2" name="图片 115713" descr=""/>
          <p:cNvPicPr/>
          <p:nvPr/>
        </p:nvPicPr>
        <p:blipFill>
          <a:blip r:embed="rId1"/>
          <a:stretch/>
        </p:blipFill>
        <p:spPr>
          <a:xfrm>
            <a:off x="682560" y="703440"/>
            <a:ext cx="7791480" cy="4547880"/>
          </a:xfrm>
          <a:prstGeom prst="rect">
            <a:avLst/>
          </a:prstGeom>
          <a:ln w="0">
            <a:noFill/>
          </a:ln>
        </p:spPr>
      </p:pic>
      <p:pic>
        <p:nvPicPr>
          <p:cNvPr id="1463" name="图片 115714" descr=""/>
          <p:cNvPicPr/>
          <p:nvPr/>
        </p:nvPicPr>
        <p:blipFill>
          <a:blip r:embed="rId2"/>
          <a:stretch/>
        </p:blipFill>
        <p:spPr>
          <a:xfrm>
            <a:off x="1224000" y="5329080"/>
            <a:ext cx="6858000" cy="1452600"/>
          </a:xfrm>
          <a:prstGeom prst="rect">
            <a:avLst/>
          </a:prstGeom>
          <a:ln w="0">
            <a:noFill/>
          </a:ln>
        </p:spPr>
      </p:pic>
      <p:sp>
        <p:nvSpPr>
          <p:cNvPr id="1464" name="矩形 115715"/>
          <p:cNvSpPr/>
          <p:nvPr/>
        </p:nvSpPr>
        <p:spPr>
          <a:xfrm>
            <a:off x="3352680" y="4835520"/>
            <a:ext cx="114804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矩形 115716"/>
          <p:cNvSpPr/>
          <p:nvPr/>
        </p:nvSpPr>
        <p:spPr>
          <a:xfrm>
            <a:off x="5580000" y="4826160"/>
            <a:ext cx="76680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矩形 115717"/>
          <p:cNvSpPr/>
          <p:nvPr/>
        </p:nvSpPr>
        <p:spPr>
          <a:xfrm>
            <a:off x="3492360" y="5300640"/>
            <a:ext cx="147168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矩形 115718"/>
          <p:cNvSpPr/>
          <p:nvPr/>
        </p:nvSpPr>
        <p:spPr>
          <a:xfrm>
            <a:off x="3328920" y="5848200"/>
            <a:ext cx="147168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矩形 115719"/>
          <p:cNvSpPr/>
          <p:nvPr/>
        </p:nvSpPr>
        <p:spPr>
          <a:xfrm>
            <a:off x="5705640" y="5834160"/>
            <a:ext cx="76644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9" name="图片 114689" descr=""/>
          <p:cNvPicPr/>
          <p:nvPr/>
        </p:nvPicPr>
        <p:blipFill>
          <a:blip r:embed="rId1"/>
          <a:stretch/>
        </p:blipFill>
        <p:spPr>
          <a:xfrm>
            <a:off x="552600" y="2119320"/>
            <a:ext cx="8038800" cy="2619360"/>
          </a:xfrm>
          <a:prstGeom prst="rect">
            <a:avLst/>
          </a:prstGeom>
          <a:ln w="0">
            <a:noFill/>
          </a:ln>
        </p:spPr>
      </p:pic>
      <p:sp>
        <p:nvSpPr>
          <p:cNvPr id="1470" name="矩形 114690"/>
          <p:cNvSpPr/>
          <p:nvPr/>
        </p:nvSpPr>
        <p:spPr>
          <a:xfrm>
            <a:off x="7715160" y="2654280"/>
            <a:ext cx="10479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矩形 114691"/>
          <p:cNvSpPr/>
          <p:nvPr/>
        </p:nvSpPr>
        <p:spPr>
          <a:xfrm>
            <a:off x="1619280" y="3213000"/>
            <a:ext cx="70488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矩形 114692"/>
          <p:cNvSpPr/>
          <p:nvPr/>
        </p:nvSpPr>
        <p:spPr>
          <a:xfrm>
            <a:off x="2195640" y="4268880"/>
            <a:ext cx="104760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3" name="图片 113665" descr=""/>
          <p:cNvPicPr/>
          <p:nvPr/>
        </p:nvPicPr>
        <p:blipFill>
          <a:blip r:embed="rId1"/>
          <a:stretch/>
        </p:blipFill>
        <p:spPr>
          <a:xfrm>
            <a:off x="639720" y="722160"/>
            <a:ext cx="7667640" cy="6031080"/>
          </a:xfrm>
          <a:prstGeom prst="rect">
            <a:avLst/>
          </a:prstGeom>
          <a:ln w="0">
            <a:noFill/>
          </a:ln>
        </p:spPr>
      </p:pic>
      <p:sp>
        <p:nvSpPr>
          <p:cNvPr id="1474" name="矩形 113666"/>
          <p:cNvSpPr/>
          <p:nvPr/>
        </p:nvSpPr>
        <p:spPr>
          <a:xfrm>
            <a:off x="1895400" y="1720800"/>
            <a:ext cx="38577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矩形 113667"/>
          <p:cNvSpPr/>
          <p:nvPr/>
        </p:nvSpPr>
        <p:spPr>
          <a:xfrm>
            <a:off x="6256440" y="2708280"/>
            <a:ext cx="20286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矩形 113668"/>
          <p:cNvSpPr/>
          <p:nvPr/>
        </p:nvSpPr>
        <p:spPr>
          <a:xfrm>
            <a:off x="1676520" y="3244680"/>
            <a:ext cx="4284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矩形 113669"/>
          <p:cNvSpPr/>
          <p:nvPr/>
        </p:nvSpPr>
        <p:spPr>
          <a:xfrm>
            <a:off x="3660840" y="5805360"/>
            <a:ext cx="4284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矩形 113670"/>
          <p:cNvSpPr/>
          <p:nvPr/>
        </p:nvSpPr>
        <p:spPr>
          <a:xfrm>
            <a:off x="5867280" y="6308640"/>
            <a:ext cx="155268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9" name="图片 112641" descr=""/>
          <p:cNvPicPr/>
          <p:nvPr/>
        </p:nvPicPr>
        <p:blipFill>
          <a:blip r:embed="rId1"/>
          <a:stretch/>
        </p:blipFill>
        <p:spPr>
          <a:xfrm>
            <a:off x="561960" y="1542960"/>
            <a:ext cx="8020080" cy="3772080"/>
          </a:xfrm>
          <a:prstGeom prst="rect">
            <a:avLst/>
          </a:prstGeom>
          <a:ln w="0">
            <a:noFill/>
          </a:ln>
        </p:spPr>
      </p:pic>
      <p:sp>
        <p:nvSpPr>
          <p:cNvPr id="1480" name="矩形 112642"/>
          <p:cNvSpPr/>
          <p:nvPr/>
        </p:nvSpPr>
        <p:spPr>
          <a:xfrm>
            <a:off x="5715000" y="3825720"/>
            <a:ext cx="4287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1" name="图片 111617" descr=""/>
          <p:cNvPicPr/>
          <p:nvPr/>
        </p:nvPicPr>
        <p:blipFill>
          <a:blip r:embed="rId1"/>
          <a:stretch/>
        </p:blipFill>
        <p:spPr>
          <a:xfrm>
            <a:off x="852480" y="1590840"/>
            <a:ext cx="7439040" cy="3676320"/>
          </a:xfrm>
          <a:prstGeom prst="rect">
            <a:avLst/>
          </a:prstGeom>
          <a:ln w="0">
            <a:noFill/>
          </a:ln>
        </p:spPr>
      </p:pic>
      <p:sp>
        <p:nvSpPr>
          <p:cNvPr id="1482" name="矩形 111618"/>
          <p:cNvSpPr/>
          <p:nvPr/>
        </p:nvSpPr>
        <p:spPr>
          <a:xfrm>
            <a:off x="6076800" y="1644480"/>
            <a:ext cx="17496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矩形 111619"/>
          <p:cNvSpPr/>
          <p:nvPr/>
        </p:nvSpPr>
        <p:spPr>
          <a:xfrm>
            <a:off x="5076720" y="2152800"/>
            <a:ext cx="136692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矩形 111620"/>
          <p:cNvSpPr/>
          <p:nvPr/>
        </p:nvSpPr>
        <p:spPr>
          <a:xfrm>
            <a:off x="7572240" y="3740040"/>
            <a:ext cx="4287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5" name="图片 110593" descr=""/>
          <p:cNvPicPr/>
          <p:nvPr/>
        </p:nvPicPr>
        <p:blipFill>
          <a:blip r:embed="rId1"/>
          <a:stretch/>
        </p:blipFill>
        <p:spPr>
          <a:xfrm>
            <a:off x="590400" y="1114560"/>
            <a:ext cx="7963200" cy="46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6" name="图片 109569" descr=""/>
          <p:cNvPicPr/>
          <p:nvPr/>
        </p:nvPicPr>
        <p:blipFill>
          <a:blip r:embed="rId1"/>
          <a:stretch/>
        </p:blipFill>
        <p:spPr>
          <a:xfrm>
            <a:off x="696960" y="955800"/>
            <a:ext cx="7324560" cy="990360"/>
          </a:xfrm>
          <a:prstGeom prst="rect">
            <a:avLst/>
          </a:prstGeom>
          <a:ln w="0">
            <a:noFill/>
          </a:ln>
        </p:spPr>
      </p:pic>
      <p:pic>
        <p:nvPicPr>
          <p:cNvPr id="1487" name="图片 109570" descr=""/>
          <p:cNvPicPr/>
          <p:nvPr/>
        </p:nvPicPr>
        <p:blipFill>
          <a:blip r:embed="rId2"/>
          <a:stretch/>
        </p:blipFill>
        <p:spPr>
          <a:xfrm>
            <a:off x="684360" y="2060640"/>
            <a:ext cx="7381800" cy="3619440"/>
          </a:xfrm>
          <a:prstGeom prst="rect">
            <a:avLst/>
          </a:prstGeom>
          <a:ln w="0">
            <a:noFill/>
          </a:ln>
        </p:spPr>
      </p:pic>
      <p:sp>
        <p:nvSpPr>
          <p:cNvPr id="1488" name="矩形 109571"/>
          <p:cNvSpPr/>
          <p:nvPr/>
        </p:nvSpPr>
        <p:spPr>
          <a:xfrm>
            <a:off x="1952640" y="1501920"/>
            <a:ext cx="71424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矩形 109572"/>
          <p:cNvSpPr/>
          <p:nvPr/>
        </p:nvSpPr>
        <p:spPr>
          <a:xfrm>
            <a:off x="3324240" y="1473120"/>
            <a:ext cx="4287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矩形 109573"/>
          <p:cNvSpPr/>
          <p:nvPr/>
        </p:nvSpPr>
        <p:spPr>
          <a:xfrm>
            <a:off x="4859280" y="2565360"/>
            <a:ext cx="4287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矩形 109574"/>
          <p:cNvSpPr/>
          <p:nvPr/>
        </p:nvSpPr>
        <p:spPr>
          <a:xfrm>
            <a:off x="6516720" y="3141720"/>
            <a:ext cx="153360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矩形 109575"/>
          <p:cNvSpPr/>
          <p:nvPr/>
        </p:nvSpPr>
        <p:spPr>
          <a:xfrm>
            <a:off x="1187280" y="3645000"/>
            <a:ext cx="518184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矩形 109576"/>
          <p:cNvSpPr/>
          <p:nvPr/>
        </p:nvSpPr>
        <p:spPr>
          <a:xfrm>
            <a:off x="6729480" y="4168800"/>
            <a:ext cx="15336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矩形 109577"/>
          <p:cNvSpPr/>
          <p:nvPr/>
        </p:nvSpPr>
        <p:spPr>
          <a:xfrm>
            <a:off x="1152360" y="4710240"/>
            <a:ext cx="684864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矩形 109578"/>
          <p:cNvSpPr/>
          <p:nvPr/>
        </p:nvSpPr>
        <p:spPr>
          <a:xfrm>
            <a:off x="1116000" y="5229360"/>
            <a:ext cx="153360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10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1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10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10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6" name="图片 108545" descr=""/>
          <p:cNvPicPr/>
          <p:nvPr/>
        </p:nvPicPr>
        <p:blipFill>
          <a:blip r:embed="rId1"/>
          <a:stretch/>
        </p:blipFill>
        <p:spPr>
          <a:xfrm>
            <a:off x="501480" y="701640"/>
            <a:ext cx="8058240" cy="6019920"/>
          </a:xfrm>
          <a:prstGeom prst="rect">
            <a:avLst/>
          </a:prstGeom>
          <a:ln w="0">
            <a:noFill/>
          </a:ln>
        </p:spPr>
      </p:pic>
      <p:sp>
        <p:nvSpPr>
          <p:cNvPr id="1497" name="矩形 108546"/>
          <p:cNvSpPr/>
          <p:nvPr/>
        </p:nvSpPr>
        <p:spPr>
          <a:xfrm>
            <a:off x="6962760" y="4530600"/>
            <a:ext cx="9810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矩形 108547"/>
          <p:cNvSpPr/>
          <p:nvPr/>
        </p:nvSpPr>
        <p:spPr>
          <a:xfrm>
            <a:off x="2195640" y="5046840"/>
            <a:ext cx="98100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矩形 108548"/>
          <p:cNvSpPr/>
          <p:nvPr/>
        </p:nvSpPr>
        <p:spPr>
          <a:xfrm>
            <a:off x="5651640" y="5586480"/>
            <a:ext cx="251460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矩形 108549"/>
          <p:cNvSpPr/>
          <p:nvPr/>
        </p:nvSpPr>
        <p:spPr>
          <a:xfrm>
            <a:off x="5724360" y="6308640"/>
            <a:ext cx="9813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9" dur="10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4" dur="10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9" dur="10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4" dur="10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1" name="图片 107521" descr=""/>
          <p:cNvPicPr/>
          <p:nvPr/>
        </p:nvPicPr>
        <p:blipFill>
          <a:blip r:embed="rId1"/>
          <a:stretch/>
        </p:blipFill>
        <p:spPr>
          <a:xfrm>
            <a:off x="523800" y="785880"/>
            <a:ext cx="8039160" cy="5781600"/>
          </a:xfrm>
          <a:prstGeom prst="rect">
            <a:avLst/>
          </a:prstGeom>
          <a:ln w="0">
            <a:noFill/>
          </a:ln>
        </p:spPr>
      </p:pic>
      <p:sp>
        <p:nvSpPr>
          <p:cNvPr id="1502" name="矩形 107522"/>
          <p:cNvSpPr/>
          <p:nvPr/>
        </p:nvSpPr>
        <p:spPr>
          <a:xfrm>
            <a:off x="5981760" y="2416320"/>
            <a:ext cx="252396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矩形 107523"/>
          <p:cNvSpPr/>
          <p:nvPr/>
        </p:nvSpPr>
        <p:spPr>
          <a:xfrm>
            <a:off x="7343640" y="2930400"/>
            <a:ext cx="120024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矩形 107524"/>
          <p:cNvSpPr/>
          <p:nvPr/>
        </p:nvSpPr>
        <p:spPr>
          <a:xfrm>
            <a:off x="2565360" y="5051520"/>
            <a:ext cx="158112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矩形 107525"/>
          <p:cNvSpPr/>
          <p:nvPr/>
        </p:nvSpPr>
        <p:spPr>
          <a:xfrm>
            <a:off x="6300720" y="5589720"/>
            <a:ext cx="223848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矩形 107526"/>
          <p:cNvSpPr/>
          <p:nvPr/>
        </p:nvSpPr>
        <p:spPr>
          <a:xfrm>
            <a:off x="1682640" y="6118200"/>
            <a:ext cx="59724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1" dur="10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6" dur="10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1" dur="10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6" dur="10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1" dur="10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5" name="图片 124930" descr=""/>
          <p:cNvPicPr/>
          <p:nvPr/>
        </p:nvPicPr>
        <p:blipFill>
          <a:blip r:embed="rId1"/>
          <a:stretch/>
        </p:blipFill>
        <p:spPr>
          <a:xfrm>
            <a:off x="542880" y="1128600"/>
            <a:ext cx="8058240" cy="4600800"/>
          </a:xfrm>
          <a:prstGeom prst="rect">
            <a:avLst/>
          </a:prstGeom>
          <a:ln w="0">
            <a:noFill/>
          </a:ln>
        </p:spPr>
      </p:pic>
      <p:sp>
        <p:nvSpPr>
          <p:cNvPr id="1436" name="矩形 124931"/>
          <p:cNvSpPr/>
          <p:nvPr/>
        </p:nvSpPr>
        <p:spPr>
          <a:xfrm>
            <a:off x="7839000" y="1663560"/>
            <a:ext cx="4287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矩形 124932"/>
          <p:cNvSpPr/>
          <p:nvPr/>
        </p:nvSpPr>
        <p:spPr>
          <a:xfrm>
            <a:off x="7812000" y="2708280"/>
            <a:ext cx="4287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7" name="图片 106497" descr=""/>
          <p:cNvPicPr/>
          <p:nvPr/>
        </p:nvPicPr>
        <p:blipFill>
          <a:blip r:embed="rId1"/>
          <a:stretch/>
        </p:blipFill>
        <p:spPr>
          <a:xfrm>
            <a:off x="2560680" y="387360"/>
            <a:ext cx="3752640" cy="2103480"/>
          </a:xfrm>
          <a:prstGeom prst="rect">
            <a:avLst/>
          </a:prstGeom>
          <a:ln w="0">
            <a:noFill/>
          </a:ln>
        </p:spPr>
      </p:pic>
      <p:pic>
        <p:nvPicPr>
          <p:cNvPr id="1508" name="图片 106498" descr=""/>
          <p:cNvPicPr/>
          <p:nvPr/>
        </p:nvPicPr>
        <p:blipFill>
          <a:blip r:embed="rId2"/>
          <a:stretch/>
        </p:blipFill>
        <p:spPr>
          <a:xfrm>
            <a:off x="539640" y="2597040"/>
            <a:ext cx="7410600" cy="4210200"/>
          </a:xfrm>
          <a:prstGeom prst="rect">
            <a:avLst/>
          </a:prstGeom>
          <a:ln w="0">
            <a:noFill/>
          </a:ln>
        </p:spPr>
      </p:pic>
      <p:sp>
        <p:nvSpPr>
          <p:cNvPr id="1509" name="矩形 106499"/>
          <p:cNvSpPr/>
          <p:nvPr/>
        </p:nvSpPr>
        <p:spPr>
          <a:xfrm>
            <a:off x="7086600" y="4197240"/>
            <a:ext cx="87624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矩形 106500"/>
          <p:cNvSpPr/>
          <p:nvPr/>
        </p:nvSpPr>
        <p:spPr>
          <a:xfrm>
            <a:off x="971640" y="4724280"/>
            <a:ext cx="475272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矩形 106501"/>
          <p:cNvSpPr/>
          <p:nvPr/>
        </p:nvSpPr>
        <p:spPr>
          <a:xfrm>
            <a:off x="5651640" y="5805360"/>
            <a:ext cx="211428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矩形 106502"/>
          <p:cNvSpPr/>
          <p:nvPr/>
        </p:nvSpPr>
        <p:spPr>
          <a:xfrm>
            <a:off x="1042920" y="6308640"/>
            <a:ext cx="172872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8" dur="10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3" dur="10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8" dur="10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3" dur="10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8" name="图片 123905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8001000" cy="1933920"/>
          </a:xfrm>
          <a:prstGeom prst="rect">
            <a:avLst/>
          </a:prstGeom>
          <a:ln w="0">
            <a:noFill/>
          </a:ln>
        </p:spPr>
      </p:pic>
      <p:pic>
        <p:nvPicPr>
          <p:cNvPr id="1439" name="图片 123906" descr=""/>
          <p:cNvPicPr/>
          <p:nvPr/>
        </p:nvPicPr>
        <p:blipFill>
          <a:blip r:embed="rId2"/>
          <a:stretch/>
        </p:blipFill>
        <p:spPr>
          <a:xfrm>
            <a:off x="390600" y="2852640"/>
            <a:ext cx="8001000" cy="866880"/>
          </a:xfrm>
          <a:prstGeom prst="rect">
            <a:avLst/>
          </a:prstGeom>
          <a:ln w="0">
            <a:noFill/>
          </a:ln>
        </p:spPr>
      </p:pic>
      <p:pic>
        <p:nvPicPr>
          <p:cNvPr id="1440" name="图片 123907" descr=""/>
          <p:cNvPicPr/>
          <p:nvPr/>
        </p:nvPicPr>
        <p:blipFill>
          <a:blip r:embed="rId3"/>
          <a:stretch/>
        </p:blipFill>
        <p:spPr>
          <a:xfrm>
            <a:off x="922320" y="3306600"/>
            <a:ext cx="6429240" cy="1565280"/>
          </a:xfrm>
          <a:prstGeom prst="rect">
            <a:avLst/>
          </a:prstGeom>
          <a:ln w="0">
            <a:noFill/>
          </a:ln>
        </p:spPr>
      </p:pic>
      <p:pic>
        <p:nvPicPr>
          <p:cNvPr id="1441" name="图片 123908" descr=""/>
          <p:cNvPicPr/>
          <p:nvPr/>
        </p:nvPicPr>
        <p:blipFill>
          <a:blip r:embed="rId4"/>
          <a:stretch/>
        </p:blipFill>
        <p:spPr>
          <a:xfrm>
            <a:off x="971640" y="4724280"/>
            <a:ext cx="4429080" cy="1981440"/>
          </a:xfrm>
          <a:prstGeom prst="rect">
            <a:avLst/>
          </a:prstGeom>
          <a:ln w="0">
            <a:noFill/>
          </a:ln>
        </p:spPr>
      </p:pic>
      <p:sp>
        <p:nvSpPr>
          <p:cNvPr id="1442" name="矩形 123909"/>
          <p:cNvSpPr/>
          <p:nvPr/>
        </p:nvSpPr>
        <p:spPr>
          <a:xfrm>
            <a:off x="7743960" y="1311120"/>
            <a:ext cx="4284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矩形 123910"/>
          <p:cNvSpPr/>
          <p:nvPr/>
        </p:nvSpPr>
        <p:spPr>
          <a:xfrm>
            <a:off x="7667640" y="3357720"/>
            <a:ext cx="42876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4" name="图片 122881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020080" cy="962280"/>
          </a:xfrm>
          <a:prstGeom prst="rect">
            <a:avLst/>
          </a:prstGeom>
          <a:ln w="0">
            <a:noFill/>
          </a:ln>
        </p:spPr>
      </p:pic>
      <p:pic>
        <p:nvPicPr>
          <p:cNvPr id="1445" name="图片 122882" descr=""/>
          <p:cNvPicPr/>
          <p:nvPr/>
        </p:nvPicPr>
        <p:blipFill>
          <a:blip r:embed="rId2"/>
          <a:stretch/>
        </p:blipFill>
        <p:spPr>
          <a:xfrm>
            <a:off x="1042920" y="2637000"/>
            <a:ext cx="1638360" cy="2038320"/>
          </a:xfrm>
          <a:prstGeom prst="rect">
            <a:avLst/>
          </a:prstGeom>
          <a:ln w="0">
            <a:noFill/>
          </a:ln>
        </p:spPr>
      </p:pic>
      <p:pic>
        <p:nvPicPr>
          <p:cNvPr id="1446" name="图片 122883" descr=""/>
          <p:cNvPicPr/>
          <p:nvPr/>
        </p:nvPicPr>
        <p:blipFill>
          <a:blip r:embed="rId3"/>
          <a:stretch/>
        </p:blipFill>
        <p:spPr>
          <a:xfrm>
            <a:off x="4500720" y="2637000"/>
            <a:ext cx="3381120" cy="2495520"/>
          </a:xfrm>
          <a:prstGeom prst="rect">
            <a:avLst/>
          </a:prstGeom>
          <a:ln w="0">
            <a:noFill/>
          </a:ln>
        </p:spPr>
      </p:pic>
      <p:sp>
        <p:nvSpPr>
          <p:cNvPr id="1447" name="矩形 122884"/>
          <p:cNvSpPr/>
          <p:nvPr/>
        </p:nvSpPr>
        <p:spPr>
          <a:xfrm>
            <a:off x="7705800" y="1873080"/>
            <a:ext cx="4284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8" name="图片 121857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4667040" cy="876600"/>
          </a:xfrm>
          <a:prstGeom prst="rect">
            <a:avLst/>
          </a:prstGeom>
          <a:ln w="0">
            <a:noFill/>
          </a:ln>
        </p:spPr>
      </p:pic>
      <p:pic>
        <p:nvPicPr>
          <p:cNvPr id="1449" name="图片 121858" descr=""/>
          <p:cNvPicPr/>
          <p:nvPr/>
        </p:nvPicPr>
        <p:blipFill>
          <a:blip r:embed="rId2"/>
          <a:stretch/>
        </p:blipFill>
        <p:spPr>
          <a:xfrm>
            <a:off x="2124000" y="1628640"/>
            <a:ext cx="1114560" cy="362160"/>
          </a:xfrm>
          <a:prstGeom prst="rect">
            <a:avLst/>
          </a:prstGeom>
          <a:ln w="0">
            <a:noFill/>
          </a:ln>
        </p:spPr>
      </p:pic>
      <p:pic>
        <p:nvPicPr>
          <p:cNvPr id="1450" name="图片 121859" descr=""/>
          <p:cNvPicPr/>
          <p:nvPr/>
        </p:nvPicPr>
        <p:blipFill>
          <a:blip r:embed="rId3"/>
          <a:stretch/>
        </p:blipFill>
        <p:spPr>
          <a:xfrm>
            <a:off x="747720" y="2171880"/>
            <a:ext cx="7648560" cy="2514600"/>
          </a:xfrm>
          <a:prstGeom prst="rect">
            <a:avLst/>
          </a:prstGeom>
          <a:ln w="0">
            <a:noFill/>
          </a:ln>
        </p:spPr>
      </p:pic>
      <p:sp>
        <p:nvSpPr>
          <p:cNvPr id="1451" name="矩形 121860"/>
          <p:cNvSpPr/>
          <p:nvPr/>
        </p:nvSpPr>
        <p:spPr>
          <a:xfrm>
            <a:off x="2476440" y="1606680"/>
            <a:ext cx="42876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1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2" name="图片 120833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8067960" cy="2562480"/>
          </a:xfrm>
          <a:prstGeom prst="rect">
            <a:avLst/>
          </a:prstGeom>
          <a:ln w="0">
            <a:noFill/>
          </a:ln>
        </p:spPr>
      </p:pic>
      <p:pic>
        <p:nvPicPr>
          <p:cNvPr id="1453" name="图片 120834" descr=""/>
          <p:cNvPicPr/>
          <p:nvPr/>
        </p:nvPicPr>
        <p:blipFill>
          <a:blip r:embed="rId2"/>
          <a:stretch/>
        </p:blipFill>
        <p:spPr>
          <a:xfrm>
            <a:off x="973080" y="3497400"/>
            <a:ext cx="4781520" cy="952200"/>
          </a:xfrm>
          <a:prstGeom prst="rect">
            <a:avLst/>
          </a:prstGeom>
          <a:ln w="0">
            <a:noFill/>
          </a:ln>
        </p:spPr>
      </p:pic>
      <p:sp>
        <p:nvSpPr>
          <p:cNvPr id="1454" name="矩形 120835"/>
          <p:cNvSpPr/>
          <p:nvPr/>
        </p:nvSpPr>
        <p:spPr>
          <a:xfrm>
            <a:off x="6143760" y="1901880"/>
            <a:ext cx="42840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5" name="图片 119809" descr=""/>
          <p:cNvPicPr/>
          <p:nvPr/>
        </p:nvPicPr>
        <p:blipFill>
          <a:blip r:embed="rId1"/>
          <a:stretch/>
        </p:blipFill>
        <p:spPr>
          <a:xfrm>
            <a:off x="576360" y="1800360"/>
            <a:ext cx="7991280" cy="3257280"/>
          </a:xfrm>
          <a:prstGeom prst="rect">
            <a:avLst/>
          </a:prstGeom>
          <a:ln w="0">
            <a:noFill/>
          </a:ln>
        </p:spPr>
      </p:pic>
      <p:sp>
        <p:nvSpPr>
          <p:cNvPr id="1456" name="矩形 119810"/>
          <p:cNvSpPr/>
          <p:nvPr/>
        </p:nvSpPr>
        <p:spPr>
          <a:xfrm>
            <a:off x="7705800" y="1873080"/>
            <a:ext cx="4284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7" name="图片 118785" descr=""/>
          <p:cNvPicPr/>
          <p:nvPr/>
        </p:nvPicPr>
        <p:blipFill>
          <a:blip r:embed="rId1"/>
          <a:stretch/>
        </p:blipFill>
        <p:spPr>
          <a:xfrm>
            <a:off x="547560" y="1376280"/>
            <a:ext cx="8048880" cy="4105440"/>
          </a:xfrm>
          <a:prstGeom prst="rect">
            <a:avLst/>
          </a:prstGeom>
          <a:ln w="0">
            <a:noFill/>
          </a:ln>
        </p:spPr>
      </p:pic>
      <p:sp>
        <p:nvSpPr>
          <p:cNvPr id="1458" name="矩形 118786"/>
          <p:cNvSpPr/>
          <p:nvPr/>
        </p:nvSpPr>
        <p:spPr>
          <a:xfrm>
            <a:off x="7781760" y="1397160"/>
            <a:ext cx="41940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9" name="图片 117761" descr=""/>
          <p:cNvPicPr/>
          <p:nvPr/>
        </p:nvPicPr>
        <p:blipFill>
          <a:blip r:embed="rId1"/>
          <a:stretch/>
        </p:blipFill>
        <p:spPr>
          <a:xfrm>
            <a:off x="542880" y="1076400"/>
            <a:ext cx="8058240" cy="4705200"/>
          </a:xfrm>
          <a:prstGeom prst="rect">
            <a:avLst/>
          </a:prstGeom>
          <a:ln w="0">
            <a:noFill/>
          </a:ln>
        </p:spPr>
      </p:pic>
      <p:sp>
        <p:nvSpPr>
          <p:cNvPr id="1460" name="矩形 117762"/>
          <p:cNvSpPr/>
          <p:nvPr/>
        </p:nvSpPr>
        <p:spPr>
          <a:xfrm>
            <a:off x="7772400" y="2673360"/>
            <a:ext cx="4287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01T09:23:33Z</dcterms:modified>
  <cp:revision>3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